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2A1C-4A8E-4B57-BE68-239AC6D3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F65C-42CD-43D5-94D6-247EAE08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156E-6532-44D6-9BFB-E019B018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4406-8757-4C9E-97D1-3EB974F7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E25B-21DC-447F-A4B2-21F97FC9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9425-D971-4D42-9944-E7C000DD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A984-6906-48A0-8433-7B340237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59E8-45AE-4F95-A082-84BB131F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1DB9-C167-48B9-8EF6-6C68EA7E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6A46-C67F-48DC-AF38-662032A0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7E98-2254-4DEC-97F6-5B8E5C47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3587-5BA4-4A0E-AA64-89C697D7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75FF-2F3C-46C8-AC19-E850EF66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FC30-EF90-4207-A076-F94EBFFC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BAC7-BDBA-4584-9EEE-F2872957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437E-0AB6-4AA1-AD0A-1BD03825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20B5-8EEF-43EB-8D51-24718381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7F5D-B401-4D80-BC2F-0588AD61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BB06-5520-4F78-992F-7466F828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694D-4BB7-4654-8D73-3BDE5A70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F81D-EC0C-4A8B-BFCF-8FC7819A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A120-E813-439C-B0A9-7E50FEA0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4D11-6197-47F2-B8C4-4D145F6D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291-311B-4382-AD30-559E99B9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91C3-C74F-42A5-87B5-9F6D9E7C312C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AC9D-7933-4015-BFE7-91FAB7953722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Lesson 1   skirt and trousers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kirt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短裙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hirt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衬衫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-shirt    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恤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weater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毛衣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rousers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长裤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4120" y="947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1807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7800" y="17524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1807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64120" y="2438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1807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71960" y="3193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1807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favourite  coulour</a:t>
            </a: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最喜欢的      颜色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981080"/>
            <a:ext cx="18288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1981080"/>
            <a:ext cx="198108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1981080"/>
            <a:ext cx="1981080" cy="1447920"/>
          </a:xfrm>
          <a:prstGeom prst="rect">
            <a:avLst/>
          </a:prstGeom>
          <a:solidFill>
            <a:srgbClr val="f9180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4343400"/>
            <a:ext cx="1905120" cy="1676520"/>
          </a:xfrm>
          <a:prstGeom prst="rect">
            <a:avLst/>
          </a:prstGeom>
          <a:solidFill>
            <a:srgbClr val="f1f54d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4419720"/>
            <a:ext cx="1981080" cy="1676160"/>
          </a:xfrm>
          <a:prstGeom prst="rect">
            <a:avLst/>
          </a:prstGeom>
          <a:solidFill>
            <a:srgbClr val="2fdce5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4419720"/>
            <a:ext cx="1752480" cy="1676160"/>
          </a:xfrm>
          <a:prstGeom prst="rect">
            <a:avLst/>
          </a:prstGeom>
          <a:solidFill>
            <a:srgbClr val="66ff66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657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lack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95480" y="359712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whit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48160" y="35971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44440" y="609588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yellow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48480" y="6111720"/>
            <a:ext cx="9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lu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9080" y="609588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gree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8600" y="8377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  skirt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llow   trousers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en  sweater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te  T-shirt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ue  trousers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个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se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zh-CN" sz="3200" spc="-1" strike="noStrike">
                <a:solidFill>
                  <a:srgbClr val="f91807"/>
                </a:solidFill>
                <a:latin typeface="Arial"/>
              </a:rPr>
              <a:t>thi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是什么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is a 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是。。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are </a:t>
            </a:r>
            <a:r>
              <a:rPr b="0" lang="zh-CN" sz="3200" spc="-1" strike="noStrike">
                <a:solidFill>
                  <a:srgbClr val="f91807"/>
                </a:solidFill>
                <a:latin typeface="Arial"/>
              </a:rPr>
              <a:t>the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些是什么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它们是。。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534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his is a red skirt . I like it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是一件红色的短裙。我喜欢它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hese are yellow trousers . Yellow is my favourite colour 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是黄色的长裤。黄色是我最喜欢的颜色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wear——wear</a:t>
            </a:r>
            <a:r>
              <a:rPr b="0" lang="zh-CN" sz="4000" spc="-1" strike="noStrike">
                <a:solidFill>
                  <a:srgbClr val="f91807"/>
                </a:solidFill>
                <a:latin typeface="Arial"/>
              </a:rPr>
              <a:t>ing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穿着     表示进行状态，正穿着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hat is he wearing?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他穿着什么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45820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e is wearing </a:t>
            </a:r>
            <a:r>
              <a:rPr b="0" lang="zh-CN" sz="4000" spc="-1" strike="noStrike">
                <a:solidFill>
                  <a:srgbClr val="f91807"/>
                </a:solidFill>
                <a:latin typeface="Arial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green </a:t>
            </a:r>
            <a:r>
              <a:rPr b="0" lang="zh-CN" sz="4000" spc="-1" strike="noStrike">
                <a:solidFill>
                  <a:srgbClr val="f91807"/>
                </a:solidFill>
                <a:latin typeface="Arial"/>
              </a:rPr>
              <a:t>sweater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他穿着一件绿色的毛衣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he is wearing </a:t>
            </a:r>
            <a:r>
              <a:rPr b="0" lang="zh-CN" sz="4000" spc="-1" strike="noStrike">
                <a:solidFill>
                  <a:srgbClr val="f91807"/>
                </a:solidFill>
                <a:latin typeface="Arial"/>
              </a:rPr>
              <a:t>a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hite </a:t>
            </a:r>
            <a:r>
              <a:rPr b="0" lang="zh-CN" sz="4000" spc="-1" strike="noStrike">
                <a:solidFill>
                  <a:srgbClr val="f91807"/>
                </a:solidFill>
                <a:latin typeface="Arial"/>
              </a:rPr>
              <a:t>T-shir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她穿着一件白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恤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e is wearing blue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trousers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他穿着蓝色长裤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he is wearing </a:t>
            </a:r>
            <a:r>
              <a:rPr b="0" lang="zh-CN" sz="4000" spc="-1" strike="noStrike">
                <a:solidFill>
                  <a:srgbClr val="f91807"/>
                </a:solidFill>
                <a:latin typeface="Arial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yellow </a:t>
            </a:r>
            <a:r>
              <a:rPr b="0" lang="zh-CN" sz="4000" spc="-1" strike="noStrike">
                <a:solidFill>
                  <a:srgbClr val="f91807"/>
                </a:solidFill>
                <a:latin typeface="Arial"/>
              </a:rPr>
              <a:t>skir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她穿着一件黄短裙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263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5T11:32:06Z</dcterms:created>
  <dc:creator>Administrator</dc:creator>
  <dc:description/>
  <dc:language>en-US</dc:language>
  <cp:lastModifiedBy>Administrator</cp:lastModifiedBy>
  <dcterms:modified xsi:type="dcterms:W3CDTF">2016-09-05T12:53:1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